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2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14.jpeg" ContentType="image/jpeg"/>
  <Override PartName="/ppt/media/image24.wmf" ContentType="image/x-wmf"/>
  <Override PartName="/ppt/media/image1.wmf" ContentType="image/x-wmf"/>
  <Override PartName="/ppt/media/image9.jpeg" ContentType="image/jpeg"/>
  <Override PartName="/ppt/media/image23.jpeg" ContentType="image/jpeg"/>
  <Override PartName="/ppt/media/image15.jpeg" ContentType="image/jpeg"/>
  <Override PartName="/ppt/media/image3.wmf" ContentType="image/x-wmf"/>
  <Override PartName="/ppt/media/image27.wmf" ContentType="image/x-wmf"/>
  <Override PartName="/ppt/media/image4.wmf" ContentType="image/x-wmf"/>
  <Override PartName="/ppt/media/image50.wmf" ContentType="image/x-wmf"/>
  <Override PartName="/ppt/media/image35.jpeg" ContentType="image/jpeg"/>
  <Override PartName="/ppt/media/image13.wmf" ContentType="image/x-wmf"/>
  <Override PartName="/ppt/media/image10.jpeg" ContentType="image/jpeg"/>
  <Override PartName="/ppt/media/image39.wmf" ContentType="image/x-wmf"/>
  <Override PartName="/ppt/media/image8.jpeg" ContentType="image/jpeg"/>
  <Override PartName="/ppt/media/image41.wmf" ContentType="image/x-wmf"/>
  <Override PartName="/ppt/media/image38.wmf" ContentType="image/x-wmf"/>
  <Override PartName="/ppt/media/image43.jpeg" ContentType="image/jpeg"/>
  <Override PartName="/ppt/media/image44.png" ContentType="image/png"/>
  <Override PartName="/ppt/media/image40.jpeg" ContentType="image/jpeg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6.png" ContentType="image/png"/>
  <Override PartName="/ppt/media/image47.wmf" ContentType="image/x-wmf"/>
  <Override PartName="/ppt/media/image37.wmf" ContentType="image/x-wmf"/>
  <Override PartName="/ppt/media/image49.wmf" ContentType="image/x-wmf"/>
  <Override PartName="/ppt/media/image33.jpeg" ContentType="image/jpeg"/>
  <Override PartName="/ppt/media/image30.wmf" ContentType="image/x-wmf"/>
  <Override PartName="/ppt/media/image34.jpeg" ContentType="image/jpeg"/>
  <Override PartName="/ppt/media/image7.png" ContentType="image/png"/>
  <Override PartName="/ppt/media/image6.wmf" ContentType="image/x-wmf"/>
  <Override PartName="/ppt/media/image31.png" ContentType="image/png"/>
  <Override PartName="/ppt/media/image29.wmf" ContentType="image/x-wmf"/>
  <Override PartName="/ppt/media/image19.jpeg" ContentType="image/jpeg"/>
  <Override PartName="/ppt/media/image4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A90-EC12-44FE-A190-6E7AF2ED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99F-4C62-417A-87A2-CA3F6FD3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9B4-FD65-407F-A927-FEA840D0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A22-A669-4B24-8A16-CDBE6F12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46C-FD38-4846-A3EB-2982BC4F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587-D803-4E1A-BB41-140584C5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D1A-CECC-408F-9FF6-AD2064E0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D90-A4FB-4A04-8C0B-1C4955A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F83-9449-4D65-B0B3-5A27F8F0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0DA-7F79-4C02-8638-10FECD5B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B80-C538-4A66-9732-B0944B29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D07-7E04-4C89-BB73-C048683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5DB4-E7FC-47D5-ABC7-E9EAA6D0CB6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32.pn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wmf"/><Relationship Id="rId3" Type="http://schemas.openxmlformats.org/officeDocument/2006/relationships/image" Target="../media/image15.jpe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9999"/>
                </a:solidFill>
                <a:uFillTx/>
                <a:latin typeface="Arial Black"/>
              </a:rPr>
              <a:t>Ягоды</a:t>
            </a:r>
            <a:r>
              <a:rPr b="1" lang="en-US" sz="5400" spc="-1" strike="noStrike" u="sng">
                <a:solidFill>
                  <a:srgbClr val="009999"/>
                </a:solidFill>
                <a:uFillTx/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2241720" cy="2649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1280" y="5562720"/>
            <a:ext cx="2286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0" y="4495680"/>
            <a:ext cx="176832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086600" y="228600"/>
            <a:ext cx="1917720" cy="2103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352680" y="380880"/>
            <a:ext cx="2514600" cy="1689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28600" y="4602240"/>
            <a:ext cx="1746360" cy="2255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4582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5866920"/>
            <a:ext cx="61722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ЛУБ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5346720" cy="488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2743200" cy="238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14400" y="533520"/>
            <a:ext cx="210672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8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19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ЕЖЕ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В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36836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629400" y="4800600"/>
            <a:ext cx="2286000" cy="187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905120" y="152280"/>
            <a:ext cx="6705360" cy="445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2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Ягоды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ПА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ДУБ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902040" cy="312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4572000" cy="469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64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ГОЛУ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9461" t="0" r="0" b="0"/>
          <a:stretch/>
        </p:blipFill>
        <p:spPr>
          <a:xfrm>
            <a:off x="3200400" y="304920"/>
            <a:ext cx="5638680" cy="476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59092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8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БРУС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72080" cy="4008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3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ЧЕР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95480" cy="2865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641760" y="168120"/>
            <a:ext cx="5135400" cy="525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5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КИ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ЗИ</a:t>
            </a: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672080" cy="565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5791320"/>
            <a:ext cx="6248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ЧЕ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РЕ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ШН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472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19920" y="4038480"/>
            <a:ext cx="2819160" cy="255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28951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 Black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2362320" cy="163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590920" cy="310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33848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1947960" cy="304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429000" y="4419720"/>
            <a:ext cx="2386080" cy="210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124080" y="152280"/>
            <a:ext cx="2711520" cy="2365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7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8120" y="594324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ШИ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ПО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438280" cy="21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5480" y="228600"/>
            <a:ext cx="6019920" cy="468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МА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Л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505480" cy="500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2971800" cy="256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3048120" cy="20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81680" y="5349960"/>
            <a:ext cx="221004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РЯ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624480" cy="544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327672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310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4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ЧЕ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РНАЯ СМО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45160" y="0"/>
            <a:ext cx="25988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4495680" cy="321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4340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40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57913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РА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СНАЯ СМО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08176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72200" y="3505320"/>
            <a:ext cx="2666880" cy="22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3818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3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РЫ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ЖО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5810400" cy="49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438280" cy="20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5800" y="914400"/>
            <a:ext cx="1828800" cy="1525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3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ЗЕМЛЯ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9880" y="457200"/>
            <a:ext cx="5048280" cy="468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2597040" cy="3062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200400" cy="26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3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ОБЛЕ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П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Х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516744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4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oha</cp:lastModifiedBy>
  <dcterms:modified xsi:type="dcterms:W3CDTF">2008-09-25T07:36:1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